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2287-4716-4F4D-A7E6-D6712FAE2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7B39-E0C6-470A-B5CE-817040F1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EE58-42B0-43D7-8D82-8BFC16A3D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D223-2328-44D6-A8ED-1FB2713BD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DDEB-F37F-4E9B-AD91-698C7452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43FC-02DB-490C-9B08-18EE9413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51E3-A93B-498E-A785-6FA8881B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3297-5044-49AC-8C63-9AB96ED6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7224-F4D5-4F91-BC95-B7A47441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8E92-2F6E-4377-956D-390492AD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CF96-FDFE-4CB8-837E-740238F4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B8E5-745F-424B-B46D-20B0D03A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graph </a:t>
            </a:r>
            <a:fld id="{6E487691-213C-4ED4-9F13-88AD7EFC7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sic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litary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D00D-C351-41B8-811F-E323A36D9A7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ief Written Mes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62080" y="1962000"/>
            <a:ext cx="699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Telephone rings) blackjack 1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blackjack 156 - 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e enemy patrol approaching perimeter. ov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e to observe, ou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59480" y="6248520"/>
            <a:ext cx="1031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graph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E65C-428D-40D4-ABEC-0F5C9DADDB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359480" y="6248520"/>
            <a:ext cx="1031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graph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lephone Set TA-312/P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Top View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365960" y="6248520"/>
            <a:ext cx="1031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graph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995040" y="1674720"/>
            <a:ext cx="7101000" cy="4365000"/>
            <a:chOff x="995040" y="1674720"/>
            <a:chExt cx="7101000" cy="4365000"/>
          </a:xfrm>
        </p:grpSpPr>
        <p:pic>
          <p:nvPicPr>
            <p:cNvPr id="82" name="Cm1_fig8" descr=""/>
            <p:cNvPicPr/>
            <p:nvPr/>
          </p:nvPicPr>
          <p:blipFill>
            <a:blip r:embed="rId1"/>
            <a:stretch/>
          </p:blipFill>
          <p:spPr>
            <a:xfrm>
              <a:off x="1314360" y="1725480"/>
              <a:ext cx="6781680" cy="374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4118760" y="1674720"/>
              <a:ext cx="23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LECTOR SWI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975920" y="5122800"/>
              <a:ext cx="2354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UZZ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OLUME 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443680" y="5122800"/>
              <a:ext cx="172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CEPTAC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NE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-79/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995040" y="4913280"/>
              <a:ext cx="1082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OO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7C03-DA00-45B2-9F3F-14AD662778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59480" y="6248520"/>
            <a:ext cx="1031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graph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lephone Set TA-312/PT (Top View with Battery Compartment Open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13680" y="6248520"/>
            <a:ext cx="12063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graph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29000" y="1617840"/>
            <a:ext cx="7812720" cy="4555080"/>
            <a:chOff x="729000" y="1617840"/>
            <a:chExt cx="7812720" cy="4555080"/>
          </a:xfrm>
        </p:grpSpPr>
        <p:pic>
          <p:nvPicPr>
            <p:cNvPr id="91" name="Cm1_fig9" descr=""/>
            <p:cNvPicPr/>
            <p:nvPr/>
          </p:nvPicPr>
          <p:blipFill>
            <a:blip r:embed="rId1"/>
            <a:stretch/>
          </p:blipFill>
          <p:spPr>
            <a:xfrm>
              <a:off x="868320" y="1852560"/>
              <a:ext cx="6726240" cy="39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5853240" y="1731960"/>
              <a:ext cx="2276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RRYING C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TAINING STR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OPE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415120" y="5256000"/>
              <a:ext cx="3126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ATTERY COMPAR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VER LATCH (TUR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OCKWISE TO OPE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53560" y="5294160"/>
              <a:ext cx="219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ATTERIES BA-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62160" y="5141880"/>
              <a:ext cx="113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ASK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9000" y="1731960"/>
              <a:ext cx="1983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ATT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PAR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71840" y="1617840"/>
              <a:ext cx="136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RMI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E972-7AAC-46E1-BD81-BA37E8F554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359480" y="6248520"/>
            <a:ext cx="1031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graph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4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lephone Set TA-312/P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Side View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31760" y="6248520"/>
            <a:ext cx="11163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graph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06600" y="5484960"/>
            <a:ext cx="13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RY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09920" y="1370160"/>
            <a:ext cx="7749000" cy="4694040"/>
            <a:chOff x="709920" y="1370160"/>
            <a:chExt cx="7749000" cy="4694040"/>
          </a:xfrm>
        </p:grpSpPr>
        <p:pic>
          <p:nvPicPr>
            <p:cNvPr id="103" name="Cm1_fig10" descr=""/>
            <p:cNvPicPr/>
            <p:nvPr/>
          </p:nvPicPr>
          <p:blipFill>
            <a:blip r:embed="rId1"/>
            <a:stretch/>
          </p:blipFill>
          <p:spPr>
            <a:xfrm>
              <a:off x="1295280" y="1733760"/>
              <a:ext cx="6400800" cy="433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6081480" y="1522440"/>
              <a:ext cx="2149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LIDE FASTEN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CLOSE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8960" y="3294000"/>
              <a:ext cx="210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NAP FASTEN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35880" y="1370160"/>
              <a:ext cx="1881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AND RING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-42A/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47320" y="1541520"/>
              <a:ext cx="2785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LEPHONE SET C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Y-122B/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09920" y="4856400"/>
              <a:ext cx="14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UZZER B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3/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6555240" y="5257800"/>
            <a:ext cx="14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RY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1F91-CBD1-4E8F-947E-A367F18E93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chnical Characteristics of AN/PRC-77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809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QUENCY RANG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 B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.00 TO 52.9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 B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3.00 TO 75.9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25"/>
              </a:spcBef>
              <a:buNone/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BER OF CHANNEL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2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25"/>
              </a:spcBef>
              <a:buNone/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MITTER OUTPUT POW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0 TO 4.0 WAT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25"/>
              </a:spcBef>
              <a:buNone/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ANCE RAN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MILES (8 KILOMETER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25"/>
              </a:spcBef>
              <a:buNone/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WER SOUR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TTERY, DRY BA-4386/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 BA398/V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25"/>
              </a:spcBef>
              <a:buNone/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TTERY LIF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 HOURS (WITH 9: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IVE-TRANSMIT RATI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752480"/>
            <a:ext cx="8077320" cy="4133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2959200"/>
            <a:ext cx="8077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3416400"/>
            <a:ext cx="8077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3873600"/>
            <a:ext cx="8077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092560"/>
            <a:ext cx="8077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4330800"/>
            <a:ext cx="8077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1752480"/>
            <a:ext cx="0" cy="414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31760" y="6248520"/>
            <a:ext cx="11163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graph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2FFB-9EE9-4FCE-9908-4CA9AFE011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nd a Radio Mes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TA 8 1  THIS IS ZULU 9 4, MESSAGE, OV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DELTA 8 1, ROGER, OV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ZULU 9 4 - ENEMY RIFLE SQUAD MOVING SOUTH ALONG WOODLINE, GRID NOVEMBER ALPHA 772957, I’M CONTINUING TO OBSERVE, TIME 0920, OV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DELTA 8 1, ROGER, OU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31760" y="6248520"/>
            <a:ext cx="11163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graph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48600" y="214200"/>
            <a:ext cx="170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This viewgraph not noted in TS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E7BA-BCD9-49A9-A7EF-50ABC14F13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331760" y="6248520"/>
            <a:ext cx="11163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graph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NCGARS, RT-1523 C/U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95560" y="2055960"/>
            <a:ext cx="319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CGARS - I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IVER - TRANSMI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447920" y="2895480"/>
          <a:ext cx="6354720" cy="22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895480"/>
                    <a:ext cx="6354720" cy="22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419A-40BC-44A0-A8A8-468E264878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331760" y="6248520"/>
            <a:ext cx="11163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graph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NCGARS, RT-1439 C/U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26760" y="5827680"/>
            <a:ext cx="41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IVER - TRANSMITTER (FRO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22360" y="1065240"/>
            <a:ext cx="7938360" cy="4681080"/>
            <a:chOff x="522360" y="1065240"/>
            <a:chExt cx="7938360" cy="4681080"/>
          </a:xfrm>
        </p:grpSpPr>
        <p:pic>
          <p:nvPicPr>
            <p:cNvPr id="133" name="Cm1_fig14" descr=""/>
            <p:cNvPicPr/>
            <p:nvPr/>
          </p:nvPicPr>
          <p:blipFill>
            <a:blip r:embed="rId1"/>
            <a:stretch/>
          </p:blipFill>
          <p:spPr>
            <a:xfrm>
              <a:off x="1469880" y="2038320"/>
              <a:ext cx="6245280" cy="321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6842880" y="1712880"/>
              <a:ext cx="1617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UD/FI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AUDIO FIL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262480" y="1065240"/>
              <a:ext cx="2149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OL(VOLUM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SP (WHISPE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558480" y="5008680"/>
              <a:ext cx="1767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UD/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AUDIO DAT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659920" y="497052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33320" y="5332320"/>
              <a:ext cx="148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EYBO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91040" y="493236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309840" y="49323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129040" y="5103720"/>
              <a:ext cx="151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CT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FUNCTIO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22360" y="4780080"/>
              <a:ext cx="183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XM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RETRANSMI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218840" y="1712880"/>
              <a:ext cx="148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EYBO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73200" y="1122480"/>
              <a:ext cx="1197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I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SIGN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47280" y="1712880"/>
              <a:ext cx="1448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CHANNE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090520" y="135108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1120" y="1712880"/>
              <a:ext cx="1448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ANTENN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2247840" y="1599840"/>
              <a:ext cx="114480" cy="72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6000840" y="1619280"/>
              <a:ext cx="9504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4019400" y="17143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5143680" y="4991040"/>
              <a:ext cx="1872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7B7B-A39C-4411-A212-43AB2FC24B5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Cm1_fig15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4038840" cy="38304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331760" y="6248520"/>
            <a:ext cx="11163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graph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NCGARS, P1 System Conn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50840" y="6248520"/>
            <a:ext cx="11163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graph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37440" y="41702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62040" y="4932360"/>
            <a:ext cx="606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1 Systems connector. connects to systems connector on battery bo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64AB-4CFD-4DCD-9EAD-405A5806D5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Cm1_fig16" descr=""/>
          <p:cNvPicPr/>
          <p:nvPr/>
        </p:nvPicPr>
        <p:blipFill>
          <a:blip r:embed="rId1"/>
          <a:stretch/>
        </p:blipFill>
        <p:spPr>
          <a:xfrm>
            <a:off x="1981080" y="1447920"/>
            <a:ext cx="4448160" cy="4647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7331760" y="6248520"/>
            <a:ext cx="11163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graph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NCGARS, Battery/Battery Bo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474920" y="1598760"/>
            <a:ext cx="6422040" cy="3945600"/>
            <a:chOff x="1474920" y="1598760"/>
            <a:chExt cx="6422040" cy="3945600"/>
          </a:xfrm>
        </p:grpSpPr>
        <p:sp>
          <p:nvSpPr>
            <p:cNvPr id="162" name=""/>
            <p:cNvSpPr/>
            <p:nvPr/>
          </p:nvSpPr>
          <p:spPr>
            <a:xfrm>
              <a:off x="5494680" y="1766880"/>
              <a:ext cx="125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ATT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O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982840" y="2705040"/>
              <a:ext cx="183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INDING P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NE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855760" y="3884760"/>
              <a:ext cx="183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1 RT 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NE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87000" y="4627440"/>
              <a:ext cx="2109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OLD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ATTERY DE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OTTOM OF R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13080" y="1598760"/>
              <a:ext cx="125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ATT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4920" y="2589120"/>
              <a:ext cx="125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ATCH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071440" y="47419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EE9C-B220-4E0B-A353-08C4144655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ach soldier minimum skills needed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operate basic communication equip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transmit and receive messages by wire and radi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B66B-436D-4AFF-A18C-F61AA1139E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7331760" y="6248520"/>
            <a:ext cx="11163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graph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NCGARS, Compon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641240" y="1514520"/>
            <a:ext cx="5378760" cy="4586400"/>
            <a:chOff x="1641240" y="1514520"/>
            <a:chExt cx="5378760" cy="4586400"/>
          </a:xfrm>
        </p:grpSpPr>
        <p:pic>
          <p:nvPicPr>
            <p:cNvPr id="172" name="Cm1_fig17" descr=""/>
            <p:cNvPicPr/>
            <p:nvPr/>
          </p:nvPicPr>
          <p:blipFill>
            <a:blip r:embed="rId1"/>
            <a:stretch/>
          </p:blipFill>
          <p:spPr>
            <a:xfrm>
              <a:off x="2095560" y="1514520"/>
              <a:ext cx="4924440" cy="42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1641240" y="4989600"/>
              <a:ext cx="134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NPA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TEN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58760" y="2343240"/>
              <a:ext cx="128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AND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29360" y="5732640"/>
              <a:ext cx="148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UCKSA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68BA-896D-47F1-936D-8B75515DF6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23960" y="1428840"/>
            <a:ext cx="7657920" cy="4705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37760" y="1519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honetic Alphabet and Numer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11080" y="1495440"/>
            <a:ext cx="7493040" cy="457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E988-0BF4-4C8D-A96F-390DBE5D18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ctr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umera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nunci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dec" pos="222876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W-ER FOW-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dec" pos="222876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N-ER ZE-R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dec" pos="222876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UN TREE S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dec" pos="222876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E ZE-RO ZE-R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dec" pos="222876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UN TOO ZE-RO ZE-R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dec" pos="222876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7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UN FOW-ER SEV-EN A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dec" pos="222876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0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-EN TOU-S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dec" pos="222876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0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UN SIX TOU-S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dec" pos="222876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1268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T WUN TOO SIX AIT W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20960" y="6248520"/>
            <a:ext cx="113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graph 3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D7B5-0160-40E8-83F9-3687436EE1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me Common Prowords Listed Alphabeticall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71880"/>
                <a:tab algn="ctr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WOR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PLAN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2171880"/>
                <a:tab algn="ctr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71880"/>
                <a:tab algn="ctr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AF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refer to all of the message that follows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71880"/>
                <a:tab algn="ctr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BEF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refer to all of the message that precedes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71880"/>
                <a:tab algn="ctr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EA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now separate the text from other parts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ssag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71880"/>
                <a:tab algn="ctr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REC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is an error in this transmission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mission will continue with the last wor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rectly transmitt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71880"/>
                <a:tab algn="ctr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P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message contains the number of group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cated by the numeral following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71880"/>
                <a:tab algn="ctr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SAY AG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am repeating transmission or part indicat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71880"/>
                <a:tab algn="ctr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SPE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shall spell the next word phoneticall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71880"/>
                <a:tab algn="ctr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349760" y="6248520"/>
            <a:ext cx="1031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grap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475F-D303-41F7-8C5B-32D00C4289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38120" y="933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1943280"/>
                <a:tab algn="ctr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SSA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message that requires recording is about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. (Transmitted immediately after the call.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proword is not used on nets primaril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ployed for conveying messages. It 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nded for use when messages are passed 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ctical or reporting n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1943280"/>
                <a:tab algn="ctr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mitting station has additional traffic for th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1943280"/>
                <a:tab algn="ctr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iving st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1943280"/>
                <a:tab algn="ctr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end of my transmission to you and n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swer is required or expect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1943280"/>
                <a:tab algn="ctr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end of my transmission to you and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e is necessary. Go ahead: transmi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1943280"/>
                <a:tab algn="ctr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DIO CHE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my signal strength and readability, i.e.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do you hear m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1943280"/>
                <a:tab algn="ctr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G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have received your last transmiss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tisfactorily, radio check is loud and clea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3049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word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20960" y="6248520"/>
            <a:ext cx="113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graph 4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944C-AA67-4277-A672-445895C549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2114640"/>
                <a:tab algn="ctr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Y AG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eat all of your last transmission. Followed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ication data means “repeat - (por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cated)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2114640"/>
                <a:tab algn="ctr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transmission is from the station whos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ator immediately follow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2114640"/>
                <a:tab algn="ctr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which immediately follows is the time 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e-time group of the messag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2114640"/>
                <a:tab algn="ctr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must pause for a few second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2114640"/>
                <a:tab algn="ctr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-O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must pause longer than a few second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2114640"/>
                <a:tab algn="ctr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C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have received your transmission, understand it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will comply, to be used only by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ressee. Since the meaning of ROGER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luded in that of WILCO, the two prowords a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ver used togeth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2114640"/>
                <a:tab algn="ctr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D AF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refer to the word of the message that follow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2114640"/>
                <a:tab algn="ctr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D BEF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refer to the word of the message that preced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3049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word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0960" y="6248520"/>
            <a:ext cx="113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graph 4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1FCD-E6E6-414D-B818-319A92BE56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ctr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LL SIG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NUNCI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228600"/>
                <a:tab algn="l" pos="457200"/>
                <a:tab algn="l" pos="1943280"/>
                <a:tab algn="l" pos="354348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2D28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PHA TOO DELTA TOO AIT ALPH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228600"/>
                <a:tab algn="l" pos="457200"/>
                <a:tab algn="l" pos="1943280"/>
                <a:tab algn="l" pos="354348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8T11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LIE AIT TANGO WUN WUN BRAV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228600"/>
                <a:tab algn="l" pos="457200"/>
                <a:tab algn="l" pos="1943280"/>
                <a:tab algn="l" pos="354348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7I09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A SEVEN INDIA ZERO NINER CHARL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228600"/>
                <a:tab algn="l" pos="457200"/>
                <a:tab algn="l" pos="1943280"/>
                <a:tab algn="l" pos="354348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7Z09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A SEVEN ZULU ZERO NINER DEL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228600"/>
                <a:tab algn="l" pos="457200"/>
                <a:tab algn="l" pos="1943280"/>
                <a:tab algn="l" pos="354348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0F07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AVO ZERO FOXTROT ZERO SEVEN ECH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228600"/>
                <a:tab algn="l" pos="457200"/>
                <a:tab algn="l" pos="1943280"/>
                <a:tab algn="l" pos="354348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7G28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MEO SEVEN GOLF TOO AIT FOXTR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228600"/>
                <a:tab algn="l" pos="457200"/>
                <a:tab algn="l" pos="1943280"/>
                <a:tab algn="l" pos="354348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3F07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NGO TREE FOXTROT ZERO SEVEN GOL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228600"/>
                <a:tab algn="l" pos="457200"/>
                <a:tab algn="l" pos="1943280"/>
                <a:tab algn="l" pos="354348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6C18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PHA SIX CHARLIE WUN AIT HOT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228600"/>
                <a:tab algn="l" pos="457200"/>
                <a:tab algn="l" pos="1943280"/>
                <a:tab algn="l" pos="354348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8C15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ERRA AIT CHARLIE WUN FIFE JULIET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228600"/>
                <a:tab algn="l" pos="457200"/>
                <a:tab algn="l" pos="1943280"/>
                <a:tab algn="l" pos="354348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LEPHONE NUMBER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NUNCI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228600"/>
                <a:tab algn="l" pos="457200"/>
                <a:tab algn="l" pos="1943280"/>
                <a:tab algn="l" pos="354348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ANT 10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ANT WUN ZERO W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228600"/>
                <a:tab algn="l" pos="457200"/>
                <a:tab algn="l" pos="1943280"/>
                <a:tab algn="l" pos="354348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JACK 38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JACK TREE AIT S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228600"/>
                <a:tab algn="l" pos="457200"/>
                <a:tab algn="l" pos="1943280"/>
                <a:tab algn="l" pos="354348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BRA 47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BRA FOWER SEVEN TO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59480" y="6248520"/>
            <a:ext cx="1031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graph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4581-50A1-423B-92DD-6041D4C4A8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359480" y="6248520"/>
            <a:ext cx="1031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graph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lephone Set TA-1/P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829800" y="1751040"/>
            <a:ext cx="7642440" cy="4128840"/>
            <a:chOff x="829800" y="1751040"/>
            <a:chExt cx="7642440" cy="4128840"/>
          </a:xfrm>
        </p:grpSpPr>
        <p:pic>
          <p:nvPicPr>
            <p:cNvPr id="65" name="Cm1_fig6" descr=""/>
            <p:cNvPicPr/>
            <p:nvPr/>
          </p:nvPicPr>
          <p:blipFill>
            <a:blip r:embed="rId1"/>
            <a:stretch/>
          </p:blipFill>
          <p:spPr>
            <a:xfrm>
              <a:off x="1266840" y="1881360"/>
              <a:ext cx="6321240" cy="35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6024960" y="1751040"/>
              <a:ext cx="134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CEI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05520" y="2475000"/>
              <a:ext cx="235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ISUAL INDIC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005520" y="3103560"/>
              <a:ext cx="246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RATOR LE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48280" y="3618000"/>
              <a:ext cx="181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NSMIT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86440" y="4303800"/>
              <a:ext cx="90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ID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814720" y="5237280"/>
              <a:ext cx="2149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UZZER VOLU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TROL KNO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44600" y="2182680"/>
              <a:ext cx="142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ESS-TO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L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29800" y="2424240"/>
              <a:ext cx="198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INDING POS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070640" y="4297320"/>
              <a:ext cx="150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VE WI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F27C-FD94-41D1-B6C4-48B766CF1C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9T18:08:14Z</dcterms:created>
  <dc:creator>Star Mountain</dc:creator>
  <dc:description/>
  <dc:language>en-US</dc:language>
  <cp:lastModifiedBy>Janet Smith</cp:lastModifiedBy>
  <cp:lastPrinted>1998-06-25T17:46:46Z</cp:lastPrinted>
  <dcterms:modified xsi:type="dcterms:W3CDTF">1998-06-25T19:00:10Z</dcterms:modified>
  <cp:revision>65</cp:revision>
  <dc:subject/>
  <dc:title>SEQUENCE OF STEPS</dc:title>
</cp:coreProperties>
</file>